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7F8-8DCF-4E02-9F5E-4E09602C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C50-BAA1-4E41-BFCD-22088E8B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33A-A38A-49FC-9AAE-8CFF18B8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4A4-4882-45E9-8B0F-11856695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774-49DE-48AA-8021-631EAEC5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D1E-0659-46BF-ACFF-F26243BC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269-1DB2-4472-AC26-B31FB4A7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1B6-78D8-4586-871B-ED50A6D7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5B4-FDF0-455E-8115-2514F682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03B-60DA-403F-A4C3-D44DAC8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390-0CCB-43E9-BD3D-2FEDC974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C02-3F10-48CF-A1F7-7D9E027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DA1B-3F15-4E50-9F61-4914823B74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Seminar Updat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y TWO more presentation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1722240"/>
            <a:ext cx="88394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: The presentation more research-based and detailed, providing a hand-out to your classmates in which to guide note-t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ing period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lution &amp; a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a pollutant, where it comes from, what problems it causes, and how we can clean it up, either by discussing a regul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 environmental law) that deals with it)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engineer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temporary technological f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ke a powerpoint AND a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will photocopy it for your classm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tation sl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he pollutant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f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specific regulation (law) OR Geoengineering technology and how it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orks cited list (&gt; 3 resour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ndout: ½ to 1 full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ke “guided notes” for your peers so they don’t need to scribble down all the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 will have a “pollution test” based on the class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2:57:08Z</dcterms:created>
  <dc:creator>Preferred Customer</dc:creator>
  <dc:description/>
  <dc:language>en-US</dc:language>
  <cp:lastModifiedBy>Johnson</cp:lastModifiedBy>
  <cp:lastPrinted>2013-02-12T12:58:34Z</cp:lastPrinted>
  <dcterms:modified xsi:type="dcterms:W3CDTF">2013-02-12T13:09:01Z</dcterms:modified>
  <cp:revision>55</cp:revision>
  <dc:subject/>
  <dc:title>Chapters 8, 9, and 10</dc:title>
</cp:coreProperties>
</file>